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FA4-1926-4C3B-A1B0-1189F671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0A5-A5D2-4C75-8A2D-436A316B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454-BBB6-442E-BB0B-B928AB49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027-3CA7-4599-A6DB-555C5CE2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847-EDF8-4395-BD3F-67F09D97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ACE-33AE-4E8D-84DC-B9C92EE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6EB-69E5-4534-A811-8FC29D59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4DE-BB81-4C7E-87AB-95C38148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39A-5722-44DF-88A7-3D377E60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B46-3656-449F-82E7-9EF06240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9C4-9CAE-44D2-AF38-CEA4AB92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D85-A299-41AE-861F-5960EA1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9FA-4356-416D-BA2F-831BC8DDCC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"/>
          <p:cNvPicPr/>
          <p:nvPr/>
        </p:nvPicPr>
        <p:blipFill>
          <a:blip r:embed="rId1"/>
          <a:stretch/>
        </p:blipFill>
        <p:spPr>
          <a:xfrm>
            <a:off x="2247840" y="2708280"/>
            <a:ext cx="5132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74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99640" y="1324080"/>
            <a:ext cx="7193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Guerre To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remière guerre mediat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 Imagen" descr=""/>
          <p:cNvPicPr/>
          <p:nvPr/>
        </p:nvPicPr>
        <p:blipFill>
          <a:blip r:embed="rId1"/>
          <a:stretch/>
        </p:blipFill>
        <p:spPr>
          <a:xfrm>
            <a:off x="2540160" y="2637000"/>
            <a:ext cx="4416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pertes humai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9 millions de m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0 millions de bless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4 Imagen" descr=""/>
          <p:cNvPicPr/>
          <p:nvPr/>
        </p:nvPicPr>
        <p:blipFill>
          <a:blip r:embed="rId1"/>
          <a:stretch/>
        </p:blipFill>
        <p:spPr>
          <a:xfrm>
            <a:off x="2066760" y="3068640"/>
            <a:ext cx="5316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rci pour votre at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 8 mai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profonds chang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éopolitiques et Soci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Imagen" descr=""/>
          <p:cNvPicPr/>
          <p:nvPr/>
        </p:nvPicPr>
        <p:blipFill>
          <a:blip r:embed="rId1"/>
          <a:stretch/>
        </p:blipFill>
        <p:spPr>
          <a:xfrm>
            <a:off x="1547640" y="2955960"/>
            <a:ext cx="2376720" cy="3138480"/>
          </a:xfrm>
          <a:prstGeom prst="rect">
            <a:avLst/>
          </a:prstGeom>
          <a:ln w="0">
            <a:noFill/>
          </a:ln>
        </p:spPr>
      </p:pic>
      <p:pic>
        <p:nvPicPr>
          <p:cNvPr id="47" name="5 Imagen" descr=""/>
          <p:cNvPicPr/>
          <p:nvPr/>
        </p:nvPicPr>
        <p:blipFill>
          <a:blip r:embed="rId2"/>
          <a:stretch/>
        </p:blipFill>
        <p:spPr>
          <a:xfrm>
            <a:off x="5148360" y="3057480"/>
            <a:ext cx="2160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changements Géopolitiques (19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418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changements Géopolitiques (19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5072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Révolution Russe (19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Imagen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4346640" cy="3097080"/>
          </a:xfrm>
          <a:prstGeom prst="rect">
            <a:avLst/>
          </a:prstGeom>
          <a:ln w="0">
            <a:noFill/>
          </a:ln>
        </p:spPr>
      </p:pic>
      <p:pic>
        <p:nvPicPr>
          <p:cNvPr id="57" name="4 Imagen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28969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ociété des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5 Imagen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3240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7191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s changements sociaux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e nouvelle place pour les fem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6 Imagen" descr=""/>
          <p:cNvPicPr/>
          <p:nvPr/>
        </p:nvPicPr>
        <p:blipFill>
          <a:blip r:embed="rId1"/>
          <a:stretch/>
        </p:blipFill>
        <p:spPr>
          <a:xfrm>
            <a:off x="971640" y="2319480"/>
            <a:ext cx="2952720" cy="4316400"/>
          </a:xfrm>
          <a:prstGeom prst="rect">
            <a:avLst/>
          </a:prstGeom>
          <a:ln w="0">
            <a:noFill/>
          </a:ln>
        </p:spPr>
      </p:pic>
      <p:pic>
        <p:nvPicPr>
          <p:cNvPr id="64" name="7 Imagen" descr=""/>
          <p:cNvPicPr/>
          <p:nvPr/>
        </p:nvPicPr>
        <p:blipFill>
          <a:blip r:embed="rId2"/>
          <a:stretch/>
        </p:blipFill>
        <p:spPr>
          <a:xfrm>
            <a:off x="5219640" y="2319480"/>
            <a:ext cx="2808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74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99640" y="1324080"/>
            <a:ext cx="7193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Guerre To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rol de l’opinion et restriction des  libertés publ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Imagen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380196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4 Imagen" descr=""/>
          <p:cNvPicPr/>
          <p:nvPr/>
        </p:nvPicPr>
        <p:blipFill>
          <a:blip r:embed="rId2"/>
          <a:stretch/>
        </p:blipFill>
        <p:spPr>
          <a:xfrm>
            <a:off x="4932360" y="2400480"/>
            <a:ext cx="33116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74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99640" y="1324080"/>
            <a:ext cx="7193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Guerre To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mension psychologiques de la gu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0 Imagen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0308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9:52:06Z</dcterms:created>
  <dc:creator>MASTER</dc:creator>
  <dc:description/>
  <dc:language>en-US</dc:language>
  <cp:lastModifiedBy>Usuario</cp:lastModifiedBy>
  <dcterms:modified xsi:type="dcterms:W3CDTF">2014-05-08T18:54:13Z</dcterms:modified>
  <cp:revision>6</cp:revision>
  <dc:subject/>
  <dc:title>LA PREMIÈRE GUERRE MONDIALE I Centennaire (1914-1918)</dc:title>
</cp:coreProperties>
</file>